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A99-1A23-4430-99D8-10F1C572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AC1-7E7F-4DD5-9D39-2BA0269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BB9-33B5-4507-B099-EBFDF100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43C-05EB-4242-801D-F45510B3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FD7-06D2-412D-A0F7-33C3862C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723-BD9D-417E-A866-83F5309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E0E-996F-44C1-ADE8-17A5A038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955-AFED-40F5-B6FA-CEBB4C86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83C-22FA-4998-99E1-18BC9C21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F3A-E904-48C3-803F-38C3DC04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638-161A-430F-ADD2-DE7F60B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ABA-7C8A-48B6-9F75-8AD9CFC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01D6-ED1D-462A-BD5C-EEF6E234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eath By C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to kill a man with pop and can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s I get from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pop and 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 Coke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 or generic in 2 liter and 20oz. si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, Mento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ict that a 2 liter bottle of name brand Coke and a single roll of name brand Mentos will produce the highest pressur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 will individually test each combination of generic and name brand soda and Mentos. I will also test different sizes and choose the ones that I think creates the highest pressure to conduct my experiment wit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Second I will test to see if my theory is even reasonable using balloons. I will repeat what I did in the last step using the most powerful combinations only this time placing balloons over the opening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ing on the results I get I may or may not continue tes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2 liter bottle of Diet Coke and also using the generic version the theory test proved successful. Even with a partial package of mentos the ballons ruptured almost immedi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bsolute perfect conditions are created suffocation may be possible but the chances of stomach rupture are next to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37:22Z</dcterms:created>
  <dc:creator>STERLING  USD376</dc:creator>
  <dc:description/>
  <dc:language>en-US</dc:language>
  <cp:lastModifiedBy>USD376</cp:lastModifiedBy>
  <dcterms:modified xsi:type="dcterms:W3CDTF">2011-03-28T19:35:52Z</dcterms:modified>
  <cp:revision>4</cp:revision>
  <dc:subject/>
  <dc:title>PowerPoint Presentation</dc:title>
</cp:coreProperties>
</file>